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378D-38A5-4EA8-9ED2-8DA9E5B4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3DC2-3185-4258-9CB1-2667B87C9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C003-5AD3-4D4C-BB4D-0794160E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675E-6252-4E22-8219-BBFCE32F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FE94-2AF3-4AFB-B0D4-7730AE3A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5A4E-1D8E-450C-ACAC-749A63673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394-B121-4B7D-AE00-23920E77A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245F-72F8-4486-87E6-C4F99EA32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EEB-0E38-43AD-A9D0-2D1155604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F089-E988-49E0-9C38-28455AF0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07D-83CD-42F2-A5F2-95BEEF96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F7A-1AC5-412E-BEF3-46CB0B05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7DE-01ED-45C9-9B68-041CA446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983-9118-4CFA-B115-E9EC4505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8D9-6A97-4893-A34D-F84FF6463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7F2-C7E3-4B79-A349-C2A64337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692-1DC6-4EC4-88D6-ED67D0B5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4FE-3702-45CF-873A-BD089180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67CF-B72A-468B-A49B-0EABF200A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73CD-DBBA-41F3-B168-4446082F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748-95F7-4C89-BA31-D7B21107B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FCA-B65B-4507-8030-74A8FFD7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650-8C97-4F17-A282-687A9ECBF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E711-AE79-4FF2-A52E-DEFC7952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CFF7-0B7D-443E-ACF4-7A993EDEE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1FC4-3A34-4578-9CBB-29D939A2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416-E734-4C11-B4F2-5E1148B0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AA6-455B-4F30-AA60-933C6CA1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4038-750D-4E6A-AB30-BBC210B0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E579-6022-481A-9EC1-2C1D6859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5F70-1188-4119-9412-A90D170E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5FD-DED3-469F-950E-65B22495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426-D9FC-4E0D-81F0-CC116DD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154-229D-4042-BDE8-4CA786B2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98E-255B-4D78-AEC4-902CA5AC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56D-9DDC-491D-BE40-386FD3A2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03F-6A77-4276-982C-3FE8D866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C0F-76D1-4CE1-9967-7BE86C3F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51C-4ECB-43DC-A4BD-C22223F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84A-2FC3-4FE8-9183-6ADD1D7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08D-96EF-44A4-86A5-808A0DF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ED1-C13D-46C3-801F-4F0D1DB6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6E1-5870-4576-B2CA-1D5D92F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1A52-503B-41A7-9E2B-AC896B8EF19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22.xml"/><Relationship Id="rId15" Type="http://schemas.openxmlformats.org/officeDocument/2006/relationships/slide" Target="slide29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19.xml"/><Relationship Id="rId19" Type="http://schemas.openxmlformats.org/officeDocument/2006/relationships/slide" Target="slide23.xml"/><Relationship Id="rId20" Type="http://schemas.openxmlformats.org/officeDocument/2006/relationships/slide" Target="slide25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3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4.xml"/><Relationship Id="rId27" Type="http://schemas.openxmlformats.org/officeDocument/2006/relationships/slide" Target="slide26.xml"/><Relationship Id="rId28" Type="http://schemas.openxmlformats.org/officeDocument/2006/relationships/slide" Target="slide17.xml"/><Relationship Id="rId29" Type="http://schemas.openxmlformats.org/officeDocument/2006/relationships/slide" Target="slide20.xml"/><Relationship Id="rId30" Type="http://schemas.openxmlformats.org/officeDocument/2006/relationships/slide" Target="slide27.xml"/><Relationship Id="rId31" Type="http://schemas.openxmlformats.org/officeDocument/2006/relationships/slide" Target="slide27.xml"/><Relationship Id="rId32" Type="http://schemas.openxmlformats.org/officeDocument/2006/relationships/slide" Target="slide17.xml"/><Relationship Id="rId33" Type="http://schemas.openxmlformats.org/officeDocument/2006/relationships/slide" Target="slide21.xml"/><Relationship Id="rId34" Type="http://schemas.openxmlformats.org/officeDocument/2006/relationships/slide" Target="slide28.xml"/><Relationship Id="rId35" Type="http://schemas.openxmlformats.org/officeDocument/2006/relationships/slide" Target="slide28.xml"/><Relationship Id="rId36" Type="http://schemas.openxmlformats.org/officeDocument/2006/relationships/slide" Target="slide2.xm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gion where Sparta is loca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-762120"/>
            <a:ext cx="9144000" cy="7620120"/>
          </a:xfrm>
          <a:custGeom>
            <a:avLst/>
            <a:gdLst>
              <a:gd name="textAreaLeft" fmla="*/ 493560 w 9144000"/>
              <a:gd name="textAreaRight" fmla="*/ 8650440 w 9144000"/>
              <a:gd name="textAreaTop" fmla="*/ 493560 h 7620120"/>
              <a:gd name="textAreaBottom" fmla="*/ 7126560 h 762012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838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arly civilization fought in Troy to get back Hel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hens faces this sea north of the Mediterranea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Name given to all Spartans who are citiz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7621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n 490BC, this battle saw 10,000 Athenians defeat Darius’ army north of Ath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83808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ere 300 Spartans under Leonidis held off thousands of Persians for days before losing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144792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at Athens had to destroy after they lost to Sparta. 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752480"/>
            <a:ext cx="8076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ge at which Spartan males began military “bootcamp” training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ity center of Hellenistic math and scien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9144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hilosophy who persuaded Phillip to unite Greece and attack Pers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3520" y="1447920"/>
            <a:ext cx="8153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66680" y="1371600"/>
            <a:ext cx="7086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Cleisthenes created this group chosen by lot to help Athens run its government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600200"/>
            <a:ext cx="7925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father of history, he wrote about the Persian wars. 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" y="14479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t this river, Alexander’s army fought a cavalry of 200 elephant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13716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was great to the Spartans for being the lawg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0"/>
            <a:ext cx="7848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Athenians reelected him 10 times; he took funds from the Delian League to rebuild Athens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Inventor of geometry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reek god of war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91440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attle where Alexander first led the Companions against Athenians and Theba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mous writer of tragedies in ancient Athe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Times New Roman"/>
              </a:rPr>
              <a:t>Periclean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Vari Poli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Cultural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Greeaat!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Agora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Phighting 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Phallanxes</a:t>
            </a:r>
            <a:endParaRPr b="1" lang="en-US" sz="2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" y="533520"/>
            <a:ext cx="784872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German archeologist who discovered the real Troy using Homer’s work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le built for Athen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16002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 wrote the book The Republic; Socrates is quoted by hi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18288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olden Age began when this king was defeate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wo events that led to Athenean defeat by the Spartan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roes strove for this ideal; in Greek, plea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early civilization was located on Cret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cal User</cp:lastModifiedBy>
  <dcterms:modified xsi:type="dcterms:W3CDTF">2013-09-26T17:55:35Z</dcterms:modified>
  <cp:revision>28</cp:revision>
  <dc:subject/>
  <dc:title>No Slide Title</dc:title>
</cp:coreProperties>
</file>